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236-5B5A-4C73-91CA-A9668886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620-EC4D-456F-9ADA-3AD3F2D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00B-BAB6-4CC2-AD9B-C8AE8552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D64-BB7F-4DD1-A5E9-806130FB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E02C-6D60-4702-AAB8-9D689079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F01F-E4D7-4CE1-80D9-B8966606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596C-158F-42FC-AAF8-EBEEC7D0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159F-87AE-4EB8-AAEA-76A4DFD0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8E1A-17F8-4332-87E5-5A976011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D066-D89E-4822-86FF-1C053308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40F7-B3FC-41BD-A8F2-E93B5C02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5B8-39AC-4A60-9245-D1274453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0B4D-F932-4197-A420-2C904577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0596-B07A-4A56-A7AD-45AC81F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C81F-B14B-4C3E-830C-01000387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D604-8847-41CB-9367-6E366F9F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D7BA-5A88-4525-AD78-609C256F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C3C-D196-4922-A45D-1F0F1067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39C-60B1-4665-AACA-68412741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DFD-AE03-4246-823A-7EFA9E42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B61-0AED-499D-8FE6-E51A3F95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C75-FE58-41E5-9327-658682A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DA4-14F2-4249-84E9-FE8A21D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EBE-EEA4-4028-A3E2-D041B43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B316-28A4-43AD-BA91-F6040A9D6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9127-B9E9-4646-98C8-3B7C2E46C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DS System 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 15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igh Lev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1430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h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971800"/>
            <a:ext cx="518148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S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3434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5:34:30Z</dcterms:created>
  <dc:creator>CACI</dc:creator>
  <dc:description/>
  <dc:language>en-US</dc:language>
  <cp:lastModifiedBy>CACI</cp:lastModifiedBy>
  <dcterms:modified xsi:type="dcterms:W3CDTF">2006-11-15T20:26:00Z</dcterms:modified>
  <cp:revision>2</cp:revision>
  <dc:subject/>
  <dc:title>CDS System Overview</dc:title>
</cp:coreProperties>
</file>